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CDA2-3BBF-44E8-9A6D-C206AD87EAC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DBDA-73D7-4AC4-A4E0-84B1A1B79F8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843A-7483-4D0A-8431-D92B8082E59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71F76-77DB-472D-87BF-8B3C7D2D3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999E-24ED-4980-9CF9-175F99B71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D393-C202-4D40-BAE4-6C0099193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18935-169A-4A52-B3D0-4F96902C4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52CBE-3356-475E-BB67-210EB1452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AD7BF-D2B6-44AF-8CDC-B91187003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33797-473F-49A5-97C1-923195633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96EB-0C09-4C42-8719-13306882A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2551-6A74-4680-B1BD-019DC3481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B0553-C6F1-4E38-BE8F-464050CEE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A269-276D-41BA-BBA5-B90017766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4B6A-9D87-44EA-8BB8-9CAE9F61F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23000" y="6381360"/>
            <a:ext cx="1557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F09F-6DD9-4905-9C68-04C56FB16BFB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Line 14"/>
          <p:cNvSpPr/>
          <p:nvPr/>
        </p:nvSpPr>
        <p:spPr>
          <a:xfrm>
            <a:off x="412920" y="765000"/>
            <a:ext cx="8305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pic>
        <p:nvPicPr>
          <p:cNvPr id="4" name="Picture 22" descr="r&amp;malto"/>
          <p:cNvPicPr/>
          <p:nvPr/>
        </p:nvPicPr>
        <p:blipFill>
          <a:blip r:embed="rId2"/>
          <a:stretch/>
        </p:blipFill>
        <p:spPr>
          <a:xfrm>
            <a:off x="419040" y="6018120"/>
            <a:ext cx="83059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pertina_ppt_eni"/>
          <p:cNvPicPr/>
          <p:nvPr/>
        </p:nvPicPr>
        <p:blipFill>
          <a:blip r:embed="rId2"/>
          <a:stretch/>
        </p:blipFill>
        <p:spPr>
          <a:xfrm>
            <a:off x="73080" y="9360"/>
            <a:ext cx="8997840" cy="683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2d8c3ea-5cb2-49b5-a215-4065f2c915e2" descr="A4761302-D2D3-48C6-A225-975C991D0347"/>
          <p:cNvPicPr/>
          <p:nvPr/>
        </p:nvPicPr>
        <p:blipFill>
          <a:blip r:embed="rId1"/>
          <a:stretch/>
        </p:blipFill>
        <p:spPr>
          <a:xfrm>
            <a:off x="682560" y="3359160"/>
            <a:ext cx="3859200" cy="107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5280" y="4548240"/>
            <a:ext cx="7777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Il programma interattivo e personalizzato per il benessere psicofisico delle persone eni</a:t>
            </a:r>
            <a:endParaRPr b="0" lang="en-US" sz="16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33480" y="59929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, 15 Dicembre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4223-EDAB-477C-88B1-16C22C420028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"/>
          <p:cNvSpPr/>
          <p:nvPr/>
        </p:nvSpPr>
        <p:spPr>
          <a:xfrm>
            <a:off x="3657960" y="28526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http://www.albanesi.it/wp-content/uploads/2014/01/healthyheart1.gif"/>
          <p:cNvPicPr/>
          <p:nvPr/>
        </p:nvPicPr>
        <p:blipFill>
          <a:blip r:embed="rId1"/>
          <a:stretch/>
        </p:blipFill>
        <p:spPr>
          <a:xfrm>
            <a:off x="415800" y="3789360"/>
            <a:ext cx="1852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eticamente.net/wp-content/uploads/2014/07/frutta-e-verdura-salute.png"/>
          <p:cNvPicPr/>
          <p:nvPr/>
        </p:nvPicPr>
        <p:blipFill>
          <a:blip r:embed="rId2"/>
          <a:stretch/>
        </p:blipFill>
        <p:spPr>
          <a:xfrm>
            <a:off x="7236000" y="333360"/>
            <a:ext cx="15667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90B8-6AFB-475D-841F-BEFBD998F201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1"/>
          <p:cNvSpPr/>
          <p:nvPr/>
        </p:nvSpPr>
        <p:spPr>
          <a:xfrm>
            <a:off x="2432520" y="2602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959"/>
                </a:solidFill>
                <a:latin typeface="Verdana"/>
              </a:rPr>
              <a:t>- BENEFICI RILE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601560" y="189000"/>
            <a:ext cx="159408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5"/>
          <p:cNvSpPr/>
          <p:nvPr/>
        </p:nvSpPr>
        <p:spPr>
          <a:xfrm>
            <a:off x="395280" y="765000"/>
            <a:ext cx="777708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aggiore consapevolezza degli iscritti testimon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ll’accuratezza crescente nella compilazione dei d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 consentito di rilevare i seguenti miglioramenti significativi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MENT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i è ridotto lo scostamento medio delle porzioni assunte rispetto a quelle consigliate. In particolare i risultati più importa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gli aumenti nei consumi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utta, verdura e acqua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nella distribuzione giornaliera delle calorie tra i pasti princip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6"/>
          <p:cNvSpPr/>
          <p:nvPr/>
        </p:nvSpPr>
        <p:spPr>
          <a:xfrm>
            <a:off x="2411280" y="3789360"/>
            <a:ext cx="62643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miglioramenti del livell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elasticità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e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equenza cardiaca 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otto sforzo misurato dallo STEP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-  si è registrata una significativa riduzione del numer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sigarette medie giornaliere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fu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0560" y="-17136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marL="3676680" indent="0">
              <a:buNone/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DISTRIBUZIONE CALORIE tra i pasti/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7623000" y="6408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9D97-677F-4ACA-9025-3AD600CC691A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196920" y="200160"/>
            <a:ext cx="1422360" cy="49212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6" descr=""/>
          <p:cNvPicPr/>
          <p:nvPr/>
        </p:nvPicPr>
        <p:blipFill>
          <a:blip r:embed="rId2"/>
          <a:srcRect l="31819" t="16094" r="16878" b="7787"/>
          <a:stretch/>
        </p:blipFill>
        <p:spPr>
          <a:xfrm>
            <a:off x="108000" y="1270080"/>
            <a:ext cx="5072040" cy="31669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"/>
          <p:cNvPicPr/>
          <p:nvPr/>
        </p:nvPicPr>
        <p:blipFill>
          <a:blip r:embed="rId3"/>
          <a:srcRect l="30712" t="16613" r="15494" b="6749"/>
          <a:stretch/>
        </p:blipFill>
        <p:spPr>
          <a:xfrm>
            <a:off x="4211640" y="2727360"/>
            <a:ext cx="4896000" cy="343836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7"/>
          <p:cNvSpPr/>
          <p:nvPr/>
        </p:nvSpPr>
        <p:spPr>
          <a:xfrm>
            <a:off x="5508720" y="2224080"/>
            <a:ext cx="29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TREND MENSILE DISTRIBUZIONE CAL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9"/>
          <p:cNvSpPr/>
          <p:nvPr/>
        </p:nvSpPr>
        <p:spPr>
          <a:xfrm>
            <a:off x="755640" y="77616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REPORT SETTIMANALE DISTRIBUZIONE CALOR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590D-84B7-42ED-8B8E-AB508B1788E2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1476360" y="115920"/>
            <a:ext cx="763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: 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RIDUZIONE SCOSTAMENTI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Grafico 3" descr=""/>
          <p:cNvPicPr/>
          <p:nvPr/>
        </p:nvPicPr>
        <p:blipFill>
          <a:blip r:embed="rId1"/>
          <a:stretch/>
        </p:blipFill>
        <p:spPr>
          <a:xfrm>
            <a:off x="4665600" y="3017880"/>
            <a:ext cx="4313160" cy="2838240"/>
          </a:xfrm>
          <a:prstGeom prst="rect">
            <a:avLst/>
          </a:prstGeom>
          <a:ln w="0">
            <a:noFill/>
          </a:ln>
        </p:spPr>
      </p:pic>
      <p:pic>
        <p:nvPicPr>
          <p:cNvPr id="113" name="Grafico 4" descr=""/>
          <p:cNvPicPr/>
          <p:nvPr/>
        </p:nvPicPr>
        <p:blipFill>
          <a:blip r:embed="rId2"/>
          <a:stretch/>
        </p:blipFill>
        <p:spPr>
          <a:xfrm>
            <a:off x="417600" y="9446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198360" y="130320"/>
            <a:ext cx="14209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89FA-BF62-4E05-A39B-FBF5001E3265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olo 1"/>
          <p:cNvSpPr/>
          <p:nvPr/>
        </p:nvSpPr>
        <p:spPr>
          <a:xfrm>
            <a:off x="1763640" y="11592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3080" indent="-33130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: AUMENTO CONSUMI ACQUA, FRUTTA E VER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co 3" descr=""/>
          <p:cNvPicPr/>
          <p:nvPr/>
        </p:nvPicPr>
        <p:blipFill>
          <a:blip r:embed="rId1"/>
          <a:stretch/>
        </p:blipFill>
        <p:spPr>
          <a:xfrm>
            <a:off x="4278240" y="31082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8" name="Grafico 4" descr=""/>
          <p:cNvPicPr/>
          <p:nvPr/>
        </p:nvPicPr>
        <p:blipFill>
          <a:blip r:embed="rId2"/>
          <a:stretch/>
        </p:blipFill>
        <p:spPr>
          <a:xfrm>
            <a:off x="515880" y="1128600"/>
            <a:ext cx="5006880" cy="284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23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6C9D-2D97-4194-BBA9-A65AC4C58BE2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5"/>
          <p:cNvSpPr/>
          <p:nvPr/>
        </p:nvSpPr>
        <p:spPr>
          <a:xfrm>
            <a:off x="395280" y="838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grafico mostra un netto miglioramento degli esiti dello Step Test, ovvero l’indicatore relativo alla frequenza cardiaca sotto sforz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olo 1"/>
          <p:cNvSpPr/>
          <p:nvPr/>
        </p:nvSpPr>
        <p:spPr>
          <a:xfrm>
            <a:off x="1800360" y="11592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MIGLIORE FREQUENZA CARDIACA E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ELASTIC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41280" y="115920"/>
            <a:ext cx="1422360" cy="490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po 11"/>
          <p:cNvGrpSpPr/>
          <p:nvPr/>
        </p:nvGrpSpPr>
        <p:grpSpPr>
          <a:xfrm>
            <a:off x="2987640" y="3716280"/>
            <a:ext cx="5832360" cy="2233800"/>
            <a:chOff x="2987640" y="3716280"/>
            <a:chExt cx="5832360" cy="2233800"/>
          </a:xfrm>
        </p:grpSpPr>
        <p:pic>
          <p:nvPicPr>
            <p:cNvPr id="126" name="Picture 3" descr=""/>
            <p:cNvPicPr/>
            <p:nvPr/>
          </p:nvPicPr>
          <p:blipFill>
            <a:blip r:embed="rId3"/>
            <a:stretch/>
          </p:blipFill>
          <p:spPr>
            <a:xfrm>
              <a:off x="2987640" y="3762360"/>
              <a:ext cx="58323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asellaDiTesto 10"/>
            <p:cNvSpPr/>
            <p:nvPr/>
          </p:nvSpPr>
          <p:spPr>
            <a:xfrm>
              <a:off x="6923520" y="3716280"/>
              <a:ext cx="2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CasellaDiTesto 12"/>
          <p:cNvSpPr/>
          <p:nvPr/>
        </p:nvSpPr>
        <p:spPr>
          <a:xfrm>
            <a:off x="1763640" y="6021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* Si tratta dell’esercizio fisico tipico per misurare l’elasticità. Seduti a terra, gambe tese avanti, si cerca di toccare con le mani la punta dei piedi. Più ci si allunga in avanti e si supera con le mani la punta del piede più è alto il puntegg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1083-461B-4F17-887C-20FFCE7A03DC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743880" cy="3162240"/>
          </a:xfrm>
          <a:prstGeom prst="rect">
            <a:avLst/>
          </a:prstGeom>
          <a:ln w="0">
            <a:noFill/>
          </a:ln>
        </p:spPr>
      </p:pic>
      <p:sp>
        <p:nvSpPr>
          <p:cNvPr id="131" name="Titolo 1"/>
          <p:cNvSpPr/>
          <p:nvPr/>
        </p:nvSpPr>
        <p:spPr>
          <a:xfrm>
            <a:off x="1728720" y="189000"/>
            <a:ext cx="3490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I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341280" y="189000"/>
            <a:ext cx="1422360" cy="490320"/>
          </a:xfrm>
          <a:prstGeom prst="rect">
            <a:avLst/>
          </a:prstGeom>
          <a:ln w="0">
            <a:noFill/>
          </a:ln>
        </p:spPr>
      </p:pic>
      <p:sp>
        <p:nvSpPr>
          <p:cNvPr id="133" name="Rettangolo 8"/>
          <p:cNvSpPr/>
          <p:nvPr/>
        </p:nvSpPr>
        <p:spPr>
          <a:xfrm>
            <a:off x="504720" y="90000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fico mostra la variazione dell’indice di Massa Corp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8FAE-1A67-43DC-B327-CA6573194C79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-1000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- FUMO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36" name="Gruppo 6" descr=""/>
          <p:cNvPicPr/>
          <p:nvPr/>
        </p:nvPicPr>
        <p:blipFill>
          <a:blip r:embed="rId1"/>
          <a:stretch/>
        </p:blipFill>
        <p:spPr>
          <a:xfrm>
            <a:off x="3224160" y="785880"/>
            <a:ext cx="4567320" cy="318924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1"/>
          <p:cNvSpPr/>
          <p:nvPr/>
        </p:nvSpPr>
        <p:spPr>
          <a:xfrm>
            <a:off x="880920" y="3906720"/>
            <a:ext cx="229572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’ inizio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2"/>
          <p:cNvSpPr/>
          <p:nvPr/>
        </p:nvSpPr>
        <p:spPr>
          <a:xfrm>
            <a:off x="3446640" y="3906720"/>
            <a:ext cx="2070000" cy="131076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a fine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ccia a destra 13"/>
          <p:cNvSpPr/>
          <p:nvPr/>
        </p:nvSpPr>
        <p:spPr>
          <a:xfrm>
            <a:off x="5742000" y="4311720"/>
            <a:ext cx="58572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14"/>
          <p:cNvSpPr/>
          <p:nvPr/>
        </p:nvSpPr>
        <p:spPr>
          <a:xfrm>
            <a:off x="6551640" y="4451400"/>
            <a:ext cx="1530360" cy="58068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Riduzione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1311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03:03Z</dcterms:created>
  <dc:creator>v.pitrone</dc:creator>
  <dc:description/>
  <dc:language>en-US</dc:language>
  <cp:lastModifiedBy>Marotti Luisa</cp:lastModifiedBy>
  <cp:lastPrinted>2015-12-03T14:47:57Z</cp:lastPrinted>
  <dcterms:modified xsi:type="dcterms:W3CDTF">2015-12-03T14:51:05Z</dcterms:modified>
  <cp:revision>404</cp:revision>
  <dc:subject/>
  <dc:title>Verdana 30 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